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ill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1AB7-F78A-44AD-A6D9-EC7B1D63DFA2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F491-B654-4D96-80CD-CE227050952C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9a5"/>
                </a:solidFill>
                <a:latin typeface="Trebuchet MS Bold"/>
                <a:ea typeface="Trebuchet MS Bold"/>
              </a:rPr>
              <a:t>At the completion of creation, everything was “very good”: there was no sin, suffering, disease, predation, carnivory, thorns, thistles, animal death, or human de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Most of the fossil record was produced by a year-long catastrophic glo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flood at the time of Noah, which w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a judgment on human sin by the Cre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BAA5-2233-4A61-AC34-7E697C9A4FB3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attack biological evolution (macroevolution), chemical evolution, and naturalistic philosop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so do creationis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argue for evidences of intelligent design in cells, organisms, Earth and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so do creationis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often accept the “Big Bang,” cosmic evolution, and geological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oppose these concep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A0CC-0F57-4EE7-AA08-487382FE2C9F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cb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tend to dodge the issue of the age of the Earth (some explicitly accept an “Old Earth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take a clear position on        “Young Earth” and “Young Universe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generally avoid any discussion of the Bible, especially the Genesis record of Creation, Curse, and Flood; tend not to identify     who the “Designer”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are able to focus strictly on science for a given audience, but affirm   the inerrancy of Scripture, and often present a gospel mess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B89B-2380-4567-B643-303AAE40699A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A035-C401-4203-9297-C5A5C519F221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The framework (or skelet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of the book of Genesis indic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that the book as a who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is intended to be taken as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“</a:t>
            </a:r>
            <a:r>
              <a:rPr b="0" lang="en-US" sz="1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These are the generations” (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“</a:t>
            </a:r>
            <a:r>
              <a:rPr b="0" lang="en-US" sz="1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This is the book of the generations”) appears 11 times in Gene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6559-2FA3-4E5B-B30F-F379E3D7AE2B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 </a:t>
            </a:r>
            <a:r>
              <a:rPr b="0" lang="en-US" sz="1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New Testament</a:t>
            </a: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writers, as well as other </a:t>
            </a:r>
            <a:r>
              <a:rPr b="0" lang="en-US" sz="1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Old Testament</a:t>
            </a: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writers, clearly understood Genesis 1 and 2 to be true hist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Jesus himself</a:t>
            </a: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so understood these chap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9982-8FF9-4FA7-8B6A-ACAC10388D56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B429-34A5-4B06-B7D1-B4247D75A11A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A tight genealogical continuity is given from Adam through his sons and the succeeding generations right up to Abraham, Isaac, and Jac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No dividing line can be specified w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“</a:t>
            </a:r>
            <a:r>
              <a:rPr b="0" lang="en-US" sz="1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myth” clearly ends and true “history” beg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81A6-195E-491C-8C56-0C9C69624482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eal world i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enealogical continu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cripture</a:t>
            </a: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 (both Old and New Testa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ramework (Skelet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747A-0F41-440D-BC9B-8C74F258124D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5308"/>
                </a:solidFill>
                <a:uFillTx/>
                <a:latin typeface="Trebuchet MS Bold"/>
                <a:ea typeface="Trebuchet MS Bold"/>
              </a:rPr>
              <a:t>Cosmic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“</a:t>
            </a:r>
            <a:r>
              <a:rPr b="0" lang="en-US" sz="1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Big Bang” starts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Later formation of stars, galaxies, and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75500"/>
                </a:solidFill>
                <a:uFillTx/>
                <a:latin typeface="Trebuchet MS Bold"/>
                <a:ea typeface="Trebuchet MS Bold"/>
              </a:rPr>
              <a:t>Chemical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Life’s molecules form through random chemical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Eventually living cells come into be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D65E-2463-4A6E-B190-8817EC8535F7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9980e"/>
                </a:solidFill>
                <a:uFillTx/>
                <a:latin typeface="Trebuchet MS Bold"/>
                <a:ea typeface="Trebuchet MS Bold"/>
              </a:rPr>
              <a:t>Biological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80e"/>
                </a:solidFill>
                <a:latin typeface="Trebuchet MS Bold"/>
                <a:ea typeface="Trebuchet MS Bold"/>
              </a:rPr>
              <a:t>From the first living cells, all life forms eventually develop (“molecules to man” evolu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5a7c"/>
                </a:solidFill>
                <a:uFillTx/>
                <a:latin typeface="Trebuchet MS Bold"/>
                <a:ea typeface="Trebuchet MS Bold"/>
              </a:rPr>
              <a:t>Cultural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5a7c"/>
                </a:solidFill>
                <a:uFillTx/>
                <a:latin typeface="Trebuchet MS Bold"/>
                <a:ea typeface="Trebuchet MS Bold"/>
              </a:rPr>
              <a:t> </a:t>
            </a:r>
            <a:r>
              <a:rPr b="0" lang="en-US" sz="1200" spc="-1" strike="noStrike">
                <a:solidFill>
                  <a:srgbClr val="005a7c"/>
                </a:solidFill>
                <a:latin typeface="Trebuchet MS Bold"/>
                <a:ea typeface="Trebuchet MS Bold"/>
              </a:rPr>
              <a:t>Human beings learn agriculture, build cities, and continue to improve their technology and their 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0507-0C65-4DF4-B900-B0BB301DE4D7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The Basic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The universe began when God for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the space-time-matter-energy complex, including a water-covered Earth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on Day One, a few thousand years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God did not create the Sun, Moon, and stars until Day Four, after He had for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 Earth on Day One and had rearranged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so land appeared on Day Th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The first life-forms were land plant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which God created on Day Th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A4FA-BE93-4D0D-9110-11C5648248A9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The Basic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The first animals were aquatic organisms and flying creatures, which God cre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on Day Five. God created land an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and Man just one day l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The various types of land plants, aquatic organisms, flying creatures, and land animals were all created “according to their kinds,” with the capacity to reproduce themsel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Basic types (“kinds”) of organisms were thus formed separately, not by evolutionary development from other basic ty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749D-A01A-4131-B269-A9E8F735EA00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The Basic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God formed the first man and woman as special creations, through unique processes. Among all life-forms on Earth, only man and woman were made “in the image of God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Humans did not arise by evolution          from non-human primate ances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During a period of six consecu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normal-length days, the universe, lif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and biological diversity were comma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into existence by an Intelligent Desig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32C4-B761-4292-803D-03C1921609EC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88920" indent="-889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1"/>
          <p:cNvSpPr/>
          <p:nvPr/>
        </p:nvSpPr>
        <p:spPr>
          <a:xfrm>
            <a:off x="2438280" y="552600"/>
            <a:ext cx="8128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Introduction: Three Approach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to the Question of Origi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3036960" y="303516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3276720" y="4521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4254480" y="600696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1"/>
          <p:cNvSpPr/>
          <p:nvPr/>
        </p:nvSpPr>
        <p:spPr>
          <a:xfrm>
            <a:off x="3276720" y="165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Rectangle 2"/>
          <p:cNvSpPr/>
          <p:nvPr/>
        </p:nvSpPr>
        <p:spPr>
          <a:xfrm>
            <a:off x="609480" y="1797120"/>
            <a:ext cx="117730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9a5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0079a5"/>
                </a:solidFill>
                <a:latin typeface="Trebuchet MS Bold"/>
                <a:ea typeface="Trebuchet MS Bold"/>
              </a:rPr>
              <a:t>At the completion of creation, everything was “very good”: there was no sin, suffering, disease, predation, carnivory, thorns, thistles, animal death, or human death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1282680" y="4915080"/>
            <a:ext cx="104266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Most of the fossil record was produced by a year-long catastrophic globa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flood at the time of Noah, which wa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a judgment on human sin by the Creator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86090496" presetSubtype="8325657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6090496" presetSubtype="860506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1"/>
          <p:cNvSpPr/>
          <p:nvPr/>
        </p:nvSpPr>
        <p:spPr>
          <a:xfrm>
            <a:off x="2438280" y="552600"/>
            <a:ext cx="8128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Introduction: Three Approach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to the Issue of Origi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3036960" y="303516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3276720" y="4521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4254480" y="600696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1"/>
          <p:cNvSpPr/>
          <p:nvPr/>
        </p:nvSpPr>
        <p:spPr>
          <a:xfrm>
            <a:off x="4254480" y="43164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520560" y="1886040"/>
            <a:ext cx="11963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attack biological evolution (macroevolution), chemical evolution, and naturalistic philosoph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so do creationist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1155600" y="4203720"/>
            <a:ext cx="1069344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argue for evidences of intelligent design in cells, organisms, Earth and univers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so do creationist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Rectangle 4"/>
          <p:cNvSpPr/>
          <p:nvPr/>
        </p:nvSpPr>
        <p:spPr>
          <a:xfrm>
            <a:off x="520560" y="6515280"/>
            <a:ext cx="11963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often accept the “Big Bang,” cosmic evolution, and geological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oppose these concept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1"/>
          <p:cNvSpPr/>
          <p:nvPr/>
        </p:nvSpPr>
        <p:spPr>
          <a:xfrm>
            <a:off x="5278320" y="795240"/>
            <a:ext cx="44960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cb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Rectangle 2"/>
          <p:cNvSpPr/>
          <p:nvPr/>
        </p:nvSpPr>
        <p:spPr>
          <a:xfrm>
            <a:off x="380880" y="1733400"/>
            <a:ext cx="122302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tend to dodge the issue of the age of the Earth (some explicitly accept an “Old Earth”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take a clear position on        “Young Earth” and “Young Universe”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Rectangle 3"/>
          <p:cNvSpPr/>
          <p:nvPr/>
        </p:nvSpPr>
        <p:spPr>
          <a:xfrm>
            <a:off x="863640" y="4521240"/>
            <a:ext cx="11264760" cy="49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generally avoid any discussion of the Bible, especially the Genesis record of Creation, Curse, and Flood; tend not to identify     who the “Designer” 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are able to focus strictly on science for a given audience, but affirm   the inerrancy of Scripture, and often present a gospel message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7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2752560" y="6084720"/>
            <a:ext cx="31626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940120" y="8051760"/>
            <a:ext cx="50418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6092416" presetSubtype="87070592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75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75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75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75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75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75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75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75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75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75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1"/>
          <p:cNvSpPr/>
          <p:nvPr/>
        </p:nvSpPr>
        <p:spPr>
          <a:xfrm>
            <a:off x="5075280" y="44172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Rectangle 2"/>
          <p:cNvSpPr/>
          <p:nvPr/>
        </p:nvSpPr>
        <p:spPr>
          <a:xfrm>
            <a:off x="2044800" y="1866960"/>
            <a:ext cx="890244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The framework (or skeleton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of the book of Genesis indicat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that the book as a whol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is intended to be taken as history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Rectangle 3"/>
          <p:cNvSpPr/>
          <p:nvPr/>
        </p:nvSpPr>
        <p:spPr>
          <a:xfrm>
            <a:off x="1317600" y="4979880"/>
            <a:ext cx="98298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“</a:t>
            </a:r>
            <a:r>
              <a:rPr b="0" lang="en-US" sz="4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These are the generations” (o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“</a:t>
            </a:r>
            <a:r>
              <a:rPr b="0" lang="en-US" sz="4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This is the book of the generations”) appears 11 times in Genesi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6092800" presetSubtype="872336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6092800" presetSubtype="872335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7" name=""/>
          <p:cNvGraphicFramePr/>
          <p:nvPr/>
        </p:nvGraphicFramePr>
        <p:xfrm>
          <a:off x="127080" y="1133640"/>
          <a:ext cx="12750840" cy="8461080"/>
        </p:xfrm>
        <a:graphic>
          <a:graphicData uri="http://schemas.openxmlformats.org/drawingml/2006/table">
            <a:tbl>
              <a:tblPr/>
              <a:tblGrid>
                <a:gridCol w="1359000"/>
                <a:gridCol w="11391840"/>
              </a:tblGrid>
              <a:tr h="11782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2: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These are the generations of the heavens and the earth,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when they were created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5: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This is the book of the generations of Adam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6: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These are the generations of Noah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10: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These are the generations of the sons of Noah,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Shem, Ham, and Japheth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11: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These are the generations of Shem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11:2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These are the generations of Terah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a40800"/>
                          </a:solidFill>
                          <a:latin typeface="Trebuchet MS"/>
                          <a:ea typeface="Trebuchet MS"/>
                        </a:rPr>
                        <a:t>25:1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a40800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a40800"/>
                          </a:solidFill>
                          <a:latin typeface="Trebuchet MS"/>
                          <a:ea typeface="Trebuchet MS"/>
                        </a:rPr>
                        <a:t>These are the generations of Ishmael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25:1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These are the generations of Isaac, Abraham’s son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36: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These are the generations of Esau (that is, Edom)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5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36: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These are the generations of Esau, the father of the Edomites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2712"/>
                          </a:solidFill>
                          <a:latin typeface="Trebuchet MS"/>
                          <a:ea typeface="Trebuchet MS"/>
                        </a:rPr>
                        <a:t>37: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2712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ff2712"/>
                          </a:solidFill>
                          <a:latin typeface="Trebuchet MS"/>
                          <a:ea typeface="Trebuchet MS"/>
                        </a:rPr>
                        <a:t>These are the generations of Jacob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8" name="Rectangle 81"/>
          <p:cNvSpPr/>
          <p:nvPr/>
        </p:nvSpPr>
        <p:spPr>
          <a:xfrm>
            <a:off x="2399040" y="219600"/>
            <a:ext cx="8219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558e28"/>
                </a:solidFill>
                <a:uFillTx/>
                <a:latin typeface="Trebuchet MS Bold"/>
                <a:ea typeface="Trebuchet MS Bold"/>
              </a:rPr>
              <a:t>Genesis: The Literary F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01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03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622440" y="6032520"/>
            <a:ext cx="3162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Rectangle 9"/>
          <p:cNvSpPr/>
          <p:nvPr/>
        </p:nvSpPr>
        <p:spPr>
          <a:xfrm>
            <a:off x="622440" y="8039160"/>
            <a:ext cx="5041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2"/>
          <p:cNvSpPr/>
          <p:nvPr/>
        </p:nvSpPr>
        <p:spPr>
          <a:xfrm>
            <a:off x="5140440" y="520560"/>
            <a:ext cx="27176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825480" y="2013120"/>
            <a:ext cx="113410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New Testament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writers, as well as other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Old Testament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writers, clearly understood Genesis 1 and 2 to be true history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Jesus himself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so understood these chapter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2133720" y="5092560"/>
            <a:ext cx="8724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Genesis 1 and 2 are confirmed by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77040" y="6366240"/>
            <a:ext cx="1815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90000"/>
                </a:solidFill>
                <a:latin typeface="Trebuchet MS Bold"/>
                <a:ea typeface="Trebuchet MS Bold"/>
              </a:rPr>
              <a:t>Exodu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416520" y="7617240"/>
            <a:ext cx="1770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40800"/>
                </a:solidFill>
                <a:latin typeface="Trebuchet MS Bold"/>
                <a:ea typeface="Trebuchet MS Bold"/>
              </a:rPr>
              <a:t>Psal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750600" y="8785440"/>
            <a:ext cx="1501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e4940"/>
                </a:solidFill>
                <a:latin typeface="Trebuchet MS Bold"/>
                <a:ea typeface="Trebuchet MS Bold"/>
              </a:rPr>
              <a:t>Isaia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2851200" y="6372720"/>
            <a:ext cx="2232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Jeremia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3130200" y="7617240"/>
            <a:ext cx="2215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Matthew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Rectangle 10"/>
          <p:cNvSpPr/>
          <p:nvPr/>
        </p:nvSpPr>
        <p:spPr>
          <a:xfrm>
            <a:off x="3500640" y="8785440"/>
            <a:ext cx="2038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Roma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Rectangle 11"/>
          <p:cNvSpPr/>
          <p:nvPr/>
        </p:nvSpPr>
        <p:spPr>
          <a:xfrm>
            <a:off x="5900040" y="6372720"/>
            <a:ext cx="3333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a531"/>
                </a:solidFill>
                <a:latin typeface="Trebuchet MS Bold"/>
                <a:ea typeface="Trebuchet MS Bold"/>
              </a:rPr>
              <a:t>1 Corinthia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Rectangle 12"/>
          <p:cNvSpPr/>
          <p:nvPr/>
        </p:nvSpPr>
        <p:spPr>
          <a:xfrm>
            <a:off x="6329520" y="7617240"/>
            <a:ext cx="3333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b4714"/>
                </a:solidFill>
                <a:latin typeface="Trebuchet MS Bold"/>
                <a:ea typeface="Trebuchet MS Bold"/>
              </a:rPr>
              <a:t>2 Corinthia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Rectangle 13"/>
          <p:cNvSpPr/>
          <p:nvPr/>
        </p:nvSpPr>
        <p:spPr>
          <a:xfrm>
            <a:off x="6815880" y="8785440"/>
            <a:ext cx="2219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Hebrew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Rectangle 14"/>
          <p:cNvSpPr/>
          <p:nvPr/>
        </p:nvSpPr>
        <p:spPr>
          <a:xfrm>
            <a:off x="10141560" y="6372720"/>
            <a:ext cx="1500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9a5"/>
                </a:solidFill>
                <a:latin typeface="Trebuchet MS Bold"/>
                <a:ea typeface="Trebuchet MS Bold"/>
              </a:rPr>
              <a:t>Jam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Rectangle 15"/>
          <p:cNvSpPr/>
          <p:nvPr/>
        </p:nvSpPr>
        <p:spPr>
          <a:xfrm>
            <a:off x="10373400" y="7617240"/>
            <a:ext cx="2494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1 Timoth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Rectangle 16"/>
          <p:cNvSpPr/>
          <p:nvPr/>
        </p:nvSpPr>
        <p:spPr>
          <a:xfrm>
            <a:off x="10680480" y="8785440"/>
            <a:ext cx="1780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2 Pete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7171456" presetSubtype="832577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7171456" presetSubtype="832577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75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75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28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75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75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8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75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75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29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75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75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450"/>
                            </p:stCondLst>
                            <p:childTnLst>
                              <p:par>
                                <p:cTn id="2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75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75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975"/>
                            </p:stCondLst>
                            <p:childTnLst>
                              <p:par>
                                <p:cTn id="30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75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75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4425"/>
                            </p:stCondLst>
                            <p:childTnLst>
                              <p:par>
                                <p:cTn id="30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75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75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325"/>
                            </p:stCondLst>
                            <p:childTnLst>
                              <p:par>
                                <p:cTn id="31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75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75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6225"/>
                            </p:stCondLst>
                            <p:childTnLst>
                              <p:par>
                                <p:cTn id="3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75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75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32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75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75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7125"/>
                            </p:stCondLst>
                            <p:childTnLst>
                              <p:par>
                                <p:cTn id="32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75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75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7725"/>
                            </p:stCondLst>
                            <p:childTnLst>
                              <p:par>
                                <p:cTn id="3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75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75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4" name=""/>
          <p:cNvGraphicFramePr/>
          <p:nvPr/>
        </p:nvGraphicFramePr>
        <p:xfrm>
          <a:off x="127080" y="122400"/>
          <a:ext cx="12750840" cy="9524880"/>
        </p:xfrm>
        <a:graphic>
          <a:graphicData uri="http://schemas.openxmlformats.org/drawingml/2006/table">
            <a:tbl>
              <a:tblPr/>
              <a:tblGrid>
                <a:gridCol w="2222280"/>
                <a:gridCol w="3530880"/>
                <a:gridCol w="6997680"/>
              </a:tblGrid>
              <a:tr h="5893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Genesis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Confirmed by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Subject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1:1ff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Hebrews 11: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Creation “ex nihilo” by God’s Wor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1:1-2: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Exodus 20:8-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Creation in 6 days; rest on 7th day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1: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Psalm 8: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The heavens made by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1: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2 Corinthians 4: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God commanded light to shin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1:6f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Psalm 19:1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God made the sky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1:6,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2 Peter 3: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Earth formed out of water, by water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60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1:14-1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salm 104:1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salm 136:7-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Isaiah 40:2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Jeremiah 31:3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urpose of the moon God mad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urpose of sun, moon, stars God mad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Stars created by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urpose of sun, moon, stars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1:20-2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Psalm 104:24f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Seas filled with life by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9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1:26f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Psalm 8:6-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Matthew 19: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1 Corinthians 11: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James 3: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Man given rulership over creatio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God created them male and femal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Man is the image and glory of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Man was made in the likeness of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1:3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1 Timothy 4: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Everything created by God is go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1" descr=""/>
          <p:cNvPicPr/>
          <p:nvPr/>
        </p:nvPicPr>
        <p:blipFill>
          <a:blip r:embed="rId1"/>
          <a:stretch/>
        </p:blipFill>
        <p:spPr>
          <a:xfrm>
            <a:off x="0" y="-152280"/>
            <a:ext cx="14755680" cy="10020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5" name=""/>
          <p:cNvGraphicFramePr/>
          <p:nvPr/>
        </p:nvGraphicFramePr>
        <p:xfrm>
          <a:off x="127080" y="122400"/>
          <a:ext cx="12750840" cy="9521640"/>
        </p:xfrm>
        <a:graphic>
          <a:graphicData uri="http://schemas.openxmlformats.org/drawingml/2006/table">
            <a:tbl>
              <a:tblPr/>
              <a:tblGrid>
                <a:gridCol w="2133360"/>
                <a:gridCol w="4241880"/>
                <a:gridCol w="6375600"/>
              </a:tblGrid>
              <a:tr h="13316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Genesis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Confirmed by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Subject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3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2: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Hebrews 4:4,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God’s rest on the 7th day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12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2: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1 Corinthians 15:45,4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1 Timothy 2:1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Man made of earth, a “living soul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Man was created before woma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2:1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Romans 5:1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Death came through si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41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2:1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1 Corinthians 11: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Woman was created for man’s sak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2:21-2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1 Corinthians 11: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Woman originated from ma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33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2:2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Matthew 19: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Verse spoken by “the Creator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28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Rectangle 7"/>
          <p:cNvSpPr/>
          <p:nvPr/>
        </p:nvSpPr>
        <p:spPr>
          <a:xfrm>
            <a:off x="622440" y="6032520"/>
            <a:ext cx="3162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Rectangle 9"/>
          <p:cNvSpPr/>
          <p:nvPr/>
        </p:nvSpPr>
        <p:spPr>
          <a:xfrm>
            <a:off x="622440" y="8039160"/>
            <a:ext cx="5041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36" name="Rectangle 2"/>
          <p:cNvSpPr/>
          <p:nvPr/>
        </p:nvSpPr>
        <p:spPr>
          <a:xfrm>
            <a:off x="7078680" y="339840"/>
            <a:ext cx="31622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165240" y="2317680"/>
            <a:ext cx="126745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A tight genealogical continuity is given from Adam through his sons and the succeeding generations right up to Abraham, Isaac, and Jacob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No dividing line can be specified whe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“</a:t>
            </a:r>
            <a:r>
              <a:rPr b="0" lang="en-US" sz="4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myth” clearly ends and true “history” begin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87173376" presetSubtype="8790318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2" descr=""/>
          <p:cNvPicPr/>
          <p:nvPr/>
        </p:nvPicPr>
        <p:blipFill>
          <a:blip r:embed="rId2"/>
          <a:stretch/>
        </p:blipFill>
        <p:spPr>
          <a:xfrm>
            <a:off x="57240" y="1587600"/>
            <a:ext cx="12884040" cy="6565680"/>
          </a:xfrm>
          <a:prstGeom prst="rect">
            <a:avLst/>
          </a:prstGeom>
          <a:ln w="0">
            <a:noFill/>
          </a:ln>
        </p:spPr>
      </p:pic>
      <p:sp>
        <p:nvSpPr>
          <p:cNvPr id="640" name="Rectangle 3"/>
          <p:cNvSpPr/>
          <p:nvPr/>
        </p:nvSpPr>
        <p:spPr>
          <a:xfrm>
            <a:off x="3378240" y="5067360"/>
            <a:ext cx="9423360" cy="2692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" descr=""/>
          <p:cNvPicPr/>
          <p:nvPr/>
        </p:nvPicPr>
        <p:blipFill>
          <a:blip r:embed="rId2"/>
          <a:stretch/>
        </p:blipFill>
        <p:spPr>
          <a:xfrm>
            <a:off x="57240" y="1587600"/>
            <a:ext cx="12884040" cy="656568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3"/>
          <p:cNvSpPr/>
          <p:nvPr/>
        </p:nvSpPr>
        <p:spPr>
          <a:xfrm>
            <a:off x="9093240" y="5067360"/>
            <a:ext cx="3708360" cy="2692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2" descr=""/>
          <p:cNvPicPr/>
          <p:nvPr/>
        </p:nvPicPr>
        <p:blipFill>
          <a:blip r:embed="rId2"/>
          <a:stretch/>
        </p:blipFill>
        <p:spPr>
          <a:xfrm>
            <a:off x="57240" y="1587600"/>
            <a:ext cx="12884040" cy="6565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7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48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50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1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2" name="Rectangle 7"/>
          <p:cNvSpPr/>
          <p:nvPr/>
        </p:nvSpPr>
        <p:spPr>
          <a:xfrm>
            <a:off x="622440" y="6032520"/>
            <a:ext cx="3162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3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4" name="Rectangle 9"/>
          <p:cNvSpPr/>
          <p:nvPr/>
        </p:nvSpPr>
        <p:spPr>
          <a:xfrm>
            <a:off x="622440" y="8039160"/>
            <a:ext cx="5041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2"/>
          <p:cNvSpPr/>
          <p:nvPr/>
        </p:nvSpPr>
        <p:spPr>
          <a:xfrm>
            <a:off x="4356000" y="419040"/>
            <a:ext cx="42926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7" name="Rectangle 3"/>
          <p:cNvSpPr/>
          <p:nvPr/>
        </p:nvSpPr>
        <p:spPr>
          <a:xfrm>
            <a:off x="2332080" y="2076480"/>
            <a:ext cx="83278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re are 64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geographical terms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88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personal names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 and som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20 identifiable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cultural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Lucida Grande"/>
              </a:rPr>
              <a:t>specified in the (disputed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Lucida Grande"/>
              </a:rPr>
              <a:t>first eleven chapters of Genesi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In chapters 1 and 2, suc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“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real world” categories are foun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notably in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Genesis 2:8-14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0116480" presetSubtype="8790378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60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62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3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4" name="Rectangle 7"/>
          <p:cNvSpPr/>
          <p:nvPr/>
        </p:nvSpPr>
        <p:spPr>
          <a:xfrm>
            <a:off x="622440" y="6032520"/>
            <a:ext cx="3162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5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6" name="Rectangle 9"/>
          <p:cNvSpPr/>
          <p:nvPr/>
        </p:nvSpPr>
        <p:spPr>
          <a:xfrm>
            <a:off x="622440" y="8039160"/>
            <a:ext cx="5041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68" name="Rectangle 2"/>
          <p:cNvSpPr/>
          <p:nvPr/>
        </p:nvSpPr>
        <p:spPr>
          <a:xfrm>
            <a:off x="3975120" y="457200"/>
            <a:ext cx="50418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9" name="Rectangle 3"/>
          <p:cNvSpPr/>
          <p:nvPr/>
        </p:nvSpPr>
        <p:spPr>
          <a:xfrm>
            <a:off x="0" y="2736720"/>
            <a:ext cx="1299204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re is no substantial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literary indication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in Genesis 1 and 2 that these chapters are intend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o be taken as </a:t>
            </a: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allegory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 </a:t>
            </a:r>
            <a:r>
              <a:rPr b="0" lang="en-US" sz="4200" spc="-1" strike="noStrike">
                <a:solidFill>
                  <a:srgbClr val="3f691e"/>
                </a:solidFill>
                <a:latin typeface="Trebuchet MS Bold"/>
                <a:ea typeface="Trebuchet MS Bold"/>
              </a:rPr>
              <a:t>legend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 </a:t>
            </a:r>
            <a:r>
              <a:rPr b="0" lang="en-US" sz="4200" spc="-1" strike="noStrike">
                <a:solidFill>
                  <a:srgbClr val="d90b00"/>
                </a:solidFill>
                <a:latin typeface="Trebuchet MS Bold"/>
                <a:ea typeface="Trebuchet MS Bold"/>
              </a:rPr>
              <a:t>parable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 </a:t>
            </a:r>
            <a:r>
              <a:rPr b="0" lang="en-US" sz="4200" spc="-1" strike="noStrike">
                <a:solidFill>
                  <a:srgbClr val="b7b100"/>
                </a:solidFill>
                <a:latin typeface="Trebuchet MS Bold"/>
                <a:ea typeface="Trebuchet MS Bold"/>
              </a:rPr>
              <a:t>poetry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or any other sort of “non-historical” material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0117248" presetSubtype="901503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1"/>
          <p:cNvSpPr/>
          <p:nvPr/>
        </p:nvSpPr>
        <p:spPr>
          <a:xfrm>
            <a:off x="2438280" y="552600"/>
            <a:ext cx="8128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Introduction: Three Approach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to the Question of Origi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Rectangle 2"/>
          <p:cNvSpPr/>
          <p:nvPr/>
        </p:nvSpPr>
        <p:spPr>
          <a:xfrm>
            <a:off x="3036960" y="303516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3276720" y="4521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4254480" y="600696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1" descr=""/>
          <p:cNvPicPr/>
          <p:nvPr/>
        </p:nvPicPr>
        <p:blipFill>
          <a:blip r:embed="rId1"/>
          <a:stretch/>
        </p:blipFill>
        <p:spPr>
          <a:xfrm>
            <a:off x="-1901880" y="-55440"/>
            <a:ext cx="14897160" cy="992952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2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72" name="Rectangle 3"/>
          <p:cNvSpPr/>
          <p:nvPr/>
        </p:nvSpPr>
        <p:spPr>
          <a:xfrm>
            <a:off x="165240" y="152280"/>
            <a:ext cx="2146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eview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3" name="Rectangle 4"/>
          <p:cNvSpPr/>
          <p:nvPr/>
        </p:nvSpPr>
        <p:spPr>
          <a:xfrm>
            <a:off x="457200" y="-44280"/>
            <a:ext cx="102888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F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4" name="Rectangle 5"/>
          <p:cNvSpPr/>
          <p:nvPr/>
        </p:nvSpPr>
        <p:spPr>
          <a:xfrm>
            <a:off x="457200" y="2044800"/>
            <a:ext cx="161280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S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5" name="Rectangle 6"/>
          <p:cNvSpPr/>
          <p:nvPr/>
        </p:nvSpPr>
        <p:spPr>
          <a:xfrm>
            <a:off x="419040" y="4025880"/>
            <a:ext cx="102888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G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6" name="Rectangle 7"/>
          <p:cNvSpPr/>
          <p:nvPr/>
        </p:nvSpPr>
        <p:spPr>
          <a:xfrm>
            <a:off x="431640" y="6006960"/>
            <a:ext cx="102888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R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7" name="Rectangle 8"/>
          <p:cNvSpPr/>
          <p:nvPr/>
        </p:nvSpPr>
        <p:spPr>
          <a:xfrm>
            <a:off x="393840" y="8089920"/>
            <a:ext cx="102852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L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8" name="Rectangle 9"/>
          <p:cNvSpPr/>
          <p:nvPr/>
        </p:nvSpPr>
        <p:spPr>
          <a:xfrm>
            <a:off x="3390840" y="438120"/>
            <a:ext cx="7340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F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ramework (Skeleton)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9" name="Rectangle 10"/>
          <p:cNvSpPr/>
          <p:nvPr/>
        </p:nvSpPr>
        <p:spPr>
          <a:xfrm>
            <a:off x="3632040" y="2152800"/>
            <a:ext cx="7112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cripture</a:t>
            </a: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 (both Old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and New Testaments)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0" name="Rectangle 11"/>
          <p:cNvSpPr/>
          <p:nvPr/>
        </p:nvSpPr>
        <p:spPr>
          <a:xfrm>
            <a:off x="3556080" y="4508640"/>
            <a:ext cx="73404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G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enealogical continuity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1" name="Rectangle 12"/>
          <p:cNvSpPr/>
          <p:nvPr/>
        </p:nvSpPr>
        <p:spPr>
          <a:xfrm>
            <a:off x="3543480" y="6489720"/>
            <a:ext cx="5333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R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eal world items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2" name="Rectangle 13"/>
          <p:cNvSpPr/>
          <p:nvPr/>
        </p:nvSpPr>
        <p:spPr>
          <a:xfrm>
            <a:off x="3517920" y="8572680"/>
            <a:ext cx="62355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L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iterary indications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zoom dir="out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1"/>
          <p:cNvSpPr/>
          <p:nvPr/>
        </p:nvSpPr>
        <p:spPr>
          <a:xfrm>
            <a:off x="3036960" y="10152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Rectangle 2"/>
          <p:cNvSpPr/>
          <p:nvPr/>
        </p:nvSpPr>
        <p:spPr>
          <a:xfrm>
            <a:off x="507960" y="1365120"/>
            <a:ext cx="50418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5308"/>
                </a:solidFill>
                <a:uFillTx/>
                <a:latin typeface="Trebuchet MS Bold"/>
                <a:ea typeface="Trebuchet MS Bold"/>
              </a:rPr>
              <a:t>1. Cosmic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1841400" y="2235240"/>
            <a:ext cx="107442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(Origin and Development of the Universe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825480" y="3251160"/>
            <a:ext cx="8166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• “</a:t>
            </a: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Big Bang” starts the Univers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825480" y="4114800"/>
            <a:ext cx="120776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Later formation of stars, galaxies, and plane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507960" y="5270400"/>
            <a:ext cx="56516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975500"/>
                </a:solidFill>
                <a:uFillTx/>
                <a:latin typeface="Trebuchet MS Bold"/>
                <a:ea typeface="Trebuchet MS Bold"/>
              </a:rPr>
              <a:t>2. Chemical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1943280" y="6134040"/>
            <a:ext cx="3784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(Origin of Life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876240" y="7061040"/>
            <a:ext cx="806472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Life’s molecules form through random chemical reac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Rectangle 9"/>
          <p:cNvSpPr/>
          <p:nvPr/>
        </p:nvSpPr>
        <p:spPr>
          <a:xfrm>
            <a:off x="838080" y="8521560"/>
            <a:ext cx="101728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Eventually living cells come into being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"/>
          <p:cNvSpPr/>
          <p:nvPr/>
        </p:nvSpPr>
        <p:spPr>
          <a:xfrm>
            <a:off x="3036960" y="10152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507960" y="1365120"/>
            <a:ext cx="585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89980e"/>
                </a:solidFill>
                <a:uFillTx/>
                <a:latin typeface="Trebuchet MS Bold"/>
                <a:ea typeface="Trebuchet MS Bold"/>
              </a:rPr>
              <a:t>3. Biological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1434960" y="2235240"/>
            <a:ext cx="6578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9980e"/>
                </a:solidFill>
                <a:latin typeface="Trebuchet MS Bold"/>
                <a:ea typeface="Trebuchet MS Bold"/>
              </a:rPr>
              <a:t>(Origin of Life’s Diversity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711360" y="3124080"/>
            <a:ext cx="81658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9980e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89980e"/>
                </a:solidFill>
                <a:latin typeface="Trebuchet MS Bold"/>
                <a:ea typeface="Trebuchet MS Bold"/>
              </a:rPr>
              <a:t>From the first living cells, all life forms eventually develop (“molecules to man” evolution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Rectangle 5"/>
          <p:cNvSpPr/>
          <p:nvPr/>
        </p:nvSpPr>
        <p:spPr>
          <a:xfrm>
            <a:off x="507960" y="5486400"/>
            <a:ext cx="5448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5a7c"/>
                </a:solidFill>
                <a:uFillTx/>
                <a:latin typeface="Trebuchet MS Bold"/>
                <a:ea typeface="Trebuchet MS Bold"/>
              </a:rPr>
              <a:t>4. Cultural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Rectangle 6"/>
          <p:cNvSpPr/>
          <p:nvPr/>
        </p:nvSpPr>
        <p:spPr>
          <a:xfrm>
            <a:off x="1486080" y="6350040"/>
            <a:ext cx="115315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a7c"/>
                </a:solidFill>
                <a:latin typeface="Trebuchet MS Bold"/>
                <a:ea typeface="Trebuchet MS Bold"/>
              </a:rPr>
              <a:t>(Origin and Development of Human Societie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Rectangle 7"/>
          <p:cNvSpPr/>
          <p:nvPr/>
        </p:nvSpPr>
        <p:spPr>
          <a:xfrm>
            <a:off x="939960" y="7238880"/>
            <a:ext cx="100202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a7c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005a7c"/>
                </a:solidFill>
                <a:latin typeface="Trebuchet MS Bold"/>
                <a:ea typeface="Trebuchet MS Bold"/>
              </a:rPr>
              <a:t>Human beings learn agriculture, build cities, and continue to improve their technology and their cultu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"/>
          <p:cNvSpPr/>
          <p:nvPr/>
        </p:nvSpPr>
        <p:spPr>
          <a:xfrm>
            <a:off x="2438280" y="552600"/>
            <a:ext cx="8128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Introduction: Three Approach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to the Issue of Origi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Rectangle 2"/>
          <p:cNvSpPr/>
          <p:nvPr/>
        </p:nvSpPr>
        <p:spPr>
          <a:xfrm>
            <a:off x="3036960" y="303516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3276720" y="4521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4254480" y="600696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1"/>
          <p:cNvSpPr/>
          <p:nvPr/>
        </p:nvSpPr>
        <p:spPr>
          <a:xfrm>
            <a:off x="3276720" y="165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Rectangle 2"/>
          <p:cNvSpPr/>
          <p:nvPr/>
        </p:nvSpPr>
        <p:spPr>
          <a:xfrm>
            <a:off x="1447920" y="1441440"/>
            <a:ext cx="1009656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The universe began when God form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the space-time-matter-energy complex, including a water-covered Earth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on Day One, a few thousand years ago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469800" y="4406760"/>
            <a:ext cx="1205244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God did not create the Sun, Moon, and stars until Day Four, after He had form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 Earth on Day One and had rearranged i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so land appeared on Day Three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Rectangle 4"/>
          <p:cNvSpPr/>
          <p:nvPr/>
        </p:nvSpPr>
        <p:spPr>
          <a:xfrm>
            <a:off x="1587600" y="7365960"/>
            <a:ext cx="98168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The first life-forms were land plants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which God created on Day Three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3249792" presetSubtype="83256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3249792" presetSubtype="859904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3249792" presetSubtype="859906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1"/>
          <p:cNvSpPr/>
          <p:nvPr/>
        </p:nvSpPr>
        <p:spPr>
          <a:xfrm>
            <a:off x="3276720" y="165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Rectangle 2"/>
          <p:cNvSpPr/>
          <p:nvPr/>
        </p:nvSpPr>
        <p:spPr>
          <a:xfrm>
            <a:off x="1015920" y="1441440"/>
            <a:ext cx="1096020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The first animals were aquatic organisms and flying creatures, which God creat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on Day Five. God created land animal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and Man just one day later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469800" y="4457880"/>
            <a:ext cx="12052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The various types of land plants, aquatic organisms, flying creatures, and land animals were all created “according to their kinds,” with the capacity to reproduce themselve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Basic types (“kinds”) of organisms were thus formed separately, not by evolutionary development from other basic type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83250560" presetSubtype="832562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3250560" presetSubtype="860488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3250560" presetSubtype="860488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1"/>
          <p:cNvSpPr/>
          <p:nvPr/>
        </p:nvSpPr>
        <p:spPr>
          <a:xfrm>
            <a:off x="3276720" y="165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838080" y="1644480"/>
            <a:ext cx="11315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God formed the first man and woman as special creations, through unique processes. Among all life-forms on Earth, only man and woman were made “in the image of God.”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Humans did not arise by evolution          from non-human primate ancestor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469800" y="6032520"/>
            <a:ext cx="1205244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During a period of six consecu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normal-length days, the universe, life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and biological diversity were command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into existence by an Intelligent Designer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86090112" presetSubtype="832564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86090112" presetSubtype="832564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6090112" presetSubtype="860495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Legion</cp:lastModifiedBy>
  <dcterms:modified xsi:type="dcterms:W3CDTF">2017-07-04T11:54:58Z</dcterms:modified>
  <cp:revision>3</cp:revision>
  <dc:subject/>
  <dc:title>Презентація PowerPoint</dc:title>
</cp:coreProperties>
</file>